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DB1-7843-4EE7-A718-F4A46110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05C-2B1D-4085-AFE6-47EE6AC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7B1-EE7D-4BAD-ADB9-61201FD3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606-F066-4A38-B30E-D8C711D8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883-8AD5-4F8C-8920-9D78A41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21C-E943-43D3-9E11-C07E6874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979-8FBD-42A9-8A7A-C0BD98A3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49F-1DE0-48BB-BCA1-4B5CE537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7F1-3705-494B-B8A5-A50EA867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BA8-437B-4570-9BE7-FEDEDC0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6F4-7563-43E2-A89E-21D6A24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84B-1BC6-432B-9394-9EC8C3F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055-61C0-4C1E-A464-78ACC9CF3DE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4:58Z</dcterms:created>
  <dc:creator> </dc:creator>
  <dc:description/>
  <dc:language>en-US</dc:language>
  <cp:lastModifiedBy> </cp:lastModifiedBy>
  <dcterms:modified xsi:type="dcterms:W3CDTF">2004-06-17T00:25:03Z</dcterms:modified>
  <cp:revision>1</cp:revision>
  <dc:subject/>
  <dc:title>常常喜樂 &lt;1/4&gt; Rejoice Always</dc:title>
</cp:coreProperties>
</file>